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2D8-51C7-4373-854B-A2ACD6B1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72C-A488-4C0F-B9E9-ED86DB46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BC1-D71F-4E2C-B6D7-7A0DB545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294-BC89-4CA7-8D4B-1137CCA4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B5-658B-4B93-91E7-0D03F05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132-C8EC-44CF-9939-B81138AE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D23-C65D-43FB-A863-7B465F24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A0E-1D8A-47FE-97F0-675D134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42F-8EC4-4E43-8C7F-F69473D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B6D-B6D1-49B7-AC35-311E1BA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5E7-F7B7-4D1D-BD15-B892310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521-9490-4B6D-A35D-AFFCED6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622-ACB0-4E77-8960-5A2A2D1BBD9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orrisville.edu/Athletics/images/Field%2520hockey.jpg&amp;imgrefurl=http://www.morrisville.edu/Athletics/Field_Hockey/&amp;h=180&amp;w=275&amp;sz=86&amp;hl=en&amp;start=14&amp;um=1&amp;tbnid=eHAokIHepD92AM:&amp;tbnh=87&amp;tbnw=133&amp;prev=/images%3Fq%3Dfield%2Bhockey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6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23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Fartlek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7920"/>
            <a:ext cx="8534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is is a Swedish term meaning ‘speed play’.  It can take a variety of different forms including varying pace or level of terra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t involves running for a period of time at different speeds (or levels).  These speeds can include:  walking, jogging, ½ pace running, ¾ pace running and sprinting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rtlek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4792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xample Sessio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467480" cy="289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6019920"/>
            <a:ext cx="7086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81880" y="2743200"/>
            <a:ext cx="0" cy="2819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2438280"/>
            <a:ext cx="236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24080" y="2438280"/>
            <a:ext cx="2438640" cy="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5800" y="2438280"/>
            <a:ext cx="23623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3200"/>
            <a:ext cx="0" cy="28954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048120"/>
            <a:ext cx="2514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al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Jo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½ Pa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¾ Pa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ri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8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14400" y="28954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971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ask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98900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mpete the Fartlek worksheet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Enter this as workbox 8 after page 19 of your course no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ask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557360"/>
            <a:ext cx="85341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Discussion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What could you do to increase the INTENSITY of a </a:t>
            </a:r>
            <a:r>
              <a:rPr b="0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continuous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 training session?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What could you do to increase the INTENSITY of a </a:t>
            </a:r>
            <a:r>
              <a:rPr b="0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fartlek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 training session?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 single training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447920"/>
            <a:ext cx="8534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is should includ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warm up (3 parts)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e CRE sess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kills practices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mall sided gam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cool dow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ask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47920"/>
            <a:ext cx="8534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Using the worksheet, describe a single training session for a hockey player trying to improve cardio-respiratory endurance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nce complete enter this worksheet as workbox 9 after page 19 of your course not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47920"/>
            <a:ext cx="853452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mplete Q2 on page 19 of your course notes.  The question should be completed on a single sheet of A4 so that it can be entered into your course not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ue date – Wednesday 3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4247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 able to name and describe 2 methods of training used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at level of intensity and duration you must work at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ich of the methods of training are most appropriate to hockey training and why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cribe a single training session.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484280"/>
            <a:ext cx="8153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Quick Quiz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tate: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physical aspects of fit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skill related aspects of fit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gathering inform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ime – 2 minut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4247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 able to name and describe 2 methods of training used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at level of intensity and duration you must work at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ich of the methods of training are most appropriate to hockey training and why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cribe a single training session.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549360"/>
            <a:ext cx="4114800" cy="76176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4560" y="602136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veloping Perform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197000"/>
            <a:ext cx="868680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Once we have identified weaknesses in our performance we must decide on a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rogramme of work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to improve them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at do we need to consider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uration of programme of wor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ethod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equency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tensity of train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ogramme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70028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o improve cardio-respiratory endurance we must complete a programme of work which lasts for ____ week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e must train a minimum of ___ times a wee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ask – Read page 18 of your course notes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ethods of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565360"/>
            <a:ext cx="836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To improve cardio-respiratory endurance we can us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ntinuous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Fartlek Train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Continuous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133720"/>
            <a:ext cx="868680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e must run for how long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t what intensity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ow is this monitored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ow is it controlled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raining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70028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ould you make sure you stayed within the training zon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would you expect to see over a period of time if you trained regularly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724280"/>
            <a:ext cx="2286000" cy="14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9880" y="4800600"/>
            <a:ext cx="1676520" cy="1576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958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23T07:41:03Z</dcterms:modified>
  <cp:revision>42</cp:revision>
  <dc:subject/>
  <dc:title>Intermediate PE</dc:title>
</cp:coreProperties>
</file>